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ADA-B7B3-4ED8-A23F-736F1CC0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B529-4C1A-4F31-93E1-703B2800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CC3-46F4-4764-83A6-9EB880F0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B3B-F0B3-492D-9CC8-6E25D76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D88-3FAB-4251-87BA-32377626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51E-95D2-49C6-9AAE-1BDC6948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0AA-918F-443D-9EDB-718286A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A8C-AD69-4868-9548-DC9077BD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A0C-A3DD-4A6C-B521-512C34F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04D-09C8-473E-BBAD-E398DBD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6AA-D3FB-4C7E-A311-95086719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DA8-1294-4877-8E9A-DABB776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6C8-F50B-4186-91C7-91519A4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DBA-7359-4094-9819-9886966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C2B-DC9D-4791-963E-224480CDE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McGregor</cp:lastModifiedBy>
  <dcterms:modified xsi:type="dcterms:W3CDTF">2012-06-19T00:31:18Z</dcterms:modified>
  <cp:revision>118</cp:revision>
  <dc:subject/>
  <dc:title>Museum of World Stuff</dc:title>
</cp:coreProperties>
</file>